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808A-6153-48FE-891D-35A47F3F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68C-A921-4EDB-8377-5727D7B2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39F-8824-4E29-8911-308FBA53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2A5-F1B3-4D7B-B868-9FC551A9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1FD-8942-4F22-8362-04440535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6C52-8979-4FAF-94B4-5C09A7F2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28E-BE4C-42A1-812B-9A473331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3BE-2F16-4890-9168-6395E034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734-81BC-4A86-B6FA-23C0734F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3B6-C492-47CF-B9EC-8D65EDF9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D08-26FB-400E-8273-F9DE3431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4353-B111-4F17-A7C4-3AEB5075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8D6D-A489-44C4-9216-7BFCC2DAD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adikal.ru/F/i033.radikal.ru/0804/e7/9bd31146a584.jpg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ANÇÃO  DO EXÌL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7640" y="4652640"/>
            <a:ext cx="554544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"/>
              </a:rPr>
              <a:t>GONÇALVES D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Minha terra tem palmeira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Onde canta o sabiá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As aves , que aqui gorjeia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Não gorjeiam como lá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920" y="0"/>
            <a:ext cx="83520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9840" y="-4651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Lindas paisagens"/>
          <p:cNvPicPr/>
          <p:nvPr/>
        </p:nvPicPr>
        <p:blipFill>
          <a:blip r:embed="rId1"/>
          <a:stretch/>
        </p:blipFill>
        <p:spPr>
          <a:xfrm>
            <a:off x="0" y="2625840"/>
            <a:ext cx="9144000" cy="423216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197000"/>
            <a:ext cx="640080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omic"/>
              </a:rPr>
              <a:t>Nosso céu tem mais estrel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omic"/>
              </a:rPr>
              <a:t>Nossas várzeas têm mais flor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omic"/>
              </a:rPr>
              <a:t>Nossos bosques têm mais vid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omic"/>
              </a:rPr>
              <a:t>Nossa vida mais am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p:transition advTm="9000"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23640" y="2276640"/>
            <a:ext cx="91076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Em cismar,sozinho,à noit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Mais prazer eu encontro lá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Minha terra tem palmeiras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Onde canta o Sabi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Ba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Minha terra tem primores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Que tais não encontro eu cá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Em cismar sozinho, à noit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Mais prazer  encontro eu lá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Minha terra tem palmeiras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Onde canta o Sab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user posted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920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"/>
              </a:rPr>
              <a:t>Não</a:t>
            </a:r>
            <a:r>
              <a:rPr b="0" lang="pt-BR" sz="3600" spc="-1" strike="noStrike">
                <a:solidFill>
                  <a:srgbClr val="000000"/>
                </a:solidFill>
                <a:latin typeface="comic"/>
              </a:rPr>
              <a:t>  permita Deus que eu morra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comic"/>
              </a:rPr>
              <a:t>Sem que eu volte para lá;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comic"/>
              </a:rPr>
              <a:t>Sem que desfrute os primores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comic"/>
              </a:rPr>
              <a:t>Que não encontro por cá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comic"/>
              </a:rPr>
              <a:t>Sem qu”inda aviste as palmeiras,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comic"/>
              </a:rPr>
              <a:t>Onde canta o Sabiá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ofessora: Ana Lucia de Camargo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cola Estadual Senador Filinto Müller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urso: CBIV - 2009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rientação: Profª Marta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7:27:21Z</dcterms:created>
  <dc:creator>Escola</dc:creator>
  <dc:description/>
  <dc:language>en-US</dc:language>
  <cp:lastModifiedBy>Escola</cp:lastModifiedBy>
  <dcterms:modified xsi:type="dcterms:W3CDTF">2009-06-25T17:45:47Z</dcterms:modified>
  <cp:revision>3</cp:revision>
  <dc:subject/>
  <dc:title>CANÇÃO  DO EXÌLIO</dc:title>
</cp:coreProperties>
</file>